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2D57-AFE0-4F7E-99C6-7CF359846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6626-DB23-4E8D-A59E-65A5DA1D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B614-6CEB-4CBE-A018-ADDFD5D7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CDA9-A859-429E-86A6-5B495395A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97A6-0D6D-4350-98A3-25DF8431D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8847-CA48-4A11-9A4D-71C32DA70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20E4-A35C-45C1-A420-A67721E32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2A3B-5DBB-44BA-8820-E909ED9B0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A6BDC-9FD2-4D56-AEB7-95A7AEEC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7652-CC6C-4F98-A70F-A7A69C438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6669-8378-41E9-891A-C05CE877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A80F-42CC-4321-BACC-32C0E49A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9362-3742-41C7-86C2-DAAD77C4941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0402D-1F21-41D7-957C-845514D012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lter Approximation The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erworth, Chebyshev, and Elliptic Fil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byshev 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|H(s)| for n=4, r=1 (Type 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5715000" cy="41371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400800" y="2743200"/>
            <a:ext cx="2362320" cy="2340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33520" y="5715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(s) = 0.2457/(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0.9528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1.4539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0.7426s + 0.275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205740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es lie on an ellip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F423-FF91-49EA-8F48-7C1DB437C57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4B1F63-F4CD-4D8A-A7DA-BC4404BFA9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liptic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– the Jacobian elliptic function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-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es approximately on an ellip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Zeros on the 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ax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parately controlled equiripple in the pass-band and stop-b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arper cutoff than Chebyshev (optimal transition ban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linear phase (Group delay distortion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914400" y="1523880"/>
            <a:ext cx="5213160" cy="2303640"/>
            <a:chOff x="914400" y="1523880"/>
            <a:chExt cx="5213160" cy="230364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rcRect l="0" t="16594" r="0" b="0"/>
            <a:stretch/>
          </p:blipFill>
          <p:spPr>
            <a:xfrm>
              <a:off x="1371600" y="1523880"/>
              <a:ext cx="4495680" cy="22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914400" y="1523880"/>
              <a:ext cx="96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|H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|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666880" y="3428640"/>
              <a:ext cx="27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790960" y="3428640"/>
              <a:ext cx="33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079960" y="1600200"/>
                <a:ext cx="284328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7CF1-A334-4DEF-A0BE-5674C887EF2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0E2154-0361-48E2-96DD-5E093546FB5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liptic Func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(s) for n=4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3,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324480" y="1752480"/>
            <a:ext cx="2327400" cy="26892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5715000" cy="4378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28600" y="5715000"/>
            <a:ext cx="868680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H(s) = (0.0032s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+ 0.0595s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+ 0.1554)/( s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+ 0.5769s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+ 1.2227s</a:t>
            </a:r>
            <a:r>
              <a:rPr b="0" lang="en-US" sz="19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+ 0.4369s + 0.2195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2654-2FD1-4CD1-926C-0C9AC06B932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CFA12F-3C40-4B7D-84B4-A7524897CB8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ssel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Fil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5181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utterworth and Chebyshev filters with sharp cutoffs (high order) carry a penalty that is evident from the positions of their poles in the s plane. Bringing the poles closer to the 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axis increases their Q, which degrades the filter's transient response. Overshoot or ringing at the response edges can resul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essel filter represents a trade-off in the opposite direction from the Butterworth. The Bessel's poles lie on a locus further from the j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axis. Transient response is improved, but at the expense of a less steep cutoff in the stop-b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5715000" y="1981080"/>
            <a:ext cx="3200400" cy="3170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5890-B10B-47C3-8E8F-65207BCE55C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45DB71-3909-4C89-87DB-FEE4B36CFEA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ctical Filter Desig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 tool to establish a prototype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Lab is a great ch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doctord.webhop.net/courses/Topics/Matlab/index.ht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Matlab tutorial by Dr. Bouzid Aliane; Chapter 5 is on filter desig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your design for ringing/overshoo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etrimental, increase the filter order and redesign to exceed the frequency response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poles near the j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axis to the left to reduce their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the resulting filter against your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ing poles to the left will reduce ringing/overshoot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degrade the transition reg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B0AB-757D-4A38-9B0F-97AB2353ED5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4322AD-D5F2-4B16-BA35-EBB16E15820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ximation Polynomi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physically realizable circuit has a transfer function that is a rational polynomial in 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want to determine classes of rational polynomials that approximate the “Ideal” low-pass filter respons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igh-pass band-pass and band-stop filters can be derived from a low pass desig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well known approximations are discussed 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terworth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even Butterworth,"On the Theory of Filter Amplifiers", Wireless Engineer (also called Experimental Wireless and the Radio Engineer), vol. 7, 1930, pp. 536-54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byshev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fnuty Lvovich Chebyshev (1821-1894) - Russia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yrillic alphabet 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lled many w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Function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lhelm Cauer (1900-1945) - German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.S. patents 1,958,742 (1934), 1,989,545 (1935), 2,048,426 (193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ssel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iedrich Wilhelm Bessel, 1784 - 18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181480" y="4648320"/>
            <a:ext cx="1692360" cy="39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3BF5-D701-47D9-B03B-135C7B973A2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6DA736-64ED-43EB-BD48-68EA35FDA53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|H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the approximation to the ideal low-pass filter response |I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he ideal filter cutoff frequency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it is normalized to one for convenienc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600200" y="2438280"/>
            <a:ext cx="4495320" cy="1947600"/>
            <a:chOff x="1600200" y="2438280"/>
            <a:chExt cx="4495320" cy="1947600"/>
          </a:xfrm>
        </p:grpSpPr>
        <p:sp>
          <p:nvSpPr>
            <p:cNvPr id="49" name=""/>
            <p:cNvSpPr/>
            <p:nvPr/>
          </p:nvSpPr>
          <p:spPr>
            <a:xfrm flipV="1">
              <a:off x="2701080" y="2531880"/>
              <a:ext cx="0" cy="13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01080" y="3851280"/>
              <a:ext cx="275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00200" y="2438280"/>
              <a:ext cx="91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|I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|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94640" y="3945240"/>
              <a:ext cx="1100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701080" y="3003480"/>
              <a:ext cx="1008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710160" y="3003480"/>
              <a:ext cx="0" cy="847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618360" y="3945240"/>
              <a:ext cx="2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33880" y="2814480"/>
              <a:ext cx="27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06EF-52CA-4C16-8218-E31A9DE3F6E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919284-31CC-4450-994D-8B5587D62A5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finitions -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532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H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written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F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is the “Characteristic Function” which attempts to approximate: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cannot be done with a finite order poly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s flexibility for the degree of error in the passband or stopb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752480" y="1676520"/>
                <a:ext cx="284328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60" name=""/>
          <p:cNvGrpSpPr/>
          <p:nvPr/>
        </p:nvGrpSpPr>
        <p:grpSpPr>
          <a:xfrm>
            <a:off x="1828800" y="3429000"/>
            <a:ext cx="3047760" cy="1378080"/>
            <a:chOff x="1828800" y="3429000"/>
            <a:chExt cx="3047760" cy="1378080"/>
          </a:xfrm>
        </p:grpSpPr>
        <p:sp>
          <p:nvSpPr>
            <p:cNvPr id="61" name=""/>
            <p:cNvSpPr/>
            <p:nvPr/>
          </p:nvSpPr>
          <p:spPr>
            <a:xfrm flipV="1">
              <a:off x="2641320" y="3543840"/>
              <a:ext cx="0" cy="80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641320" y="4350600"/>
              <a:ext cx="203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828800" y="3486600"/>
              <a:ext cx="676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37800" y="4408200"/>
              <a:ext cx="33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318480" y="4408200"/>
              <a:ext cx="20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370240" y="3715560"/>
              <a:ext cx="20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641320" y="4350600"/>
              <a:ext cx="744840" cy="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3454200" y="3659040"/>
              <a:ext cx="0" cy="6908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318480" y="3429000"/>
              <a:ext cx="33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0BF5-13B0-4CA3-9112-D2FBC17A49B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D7D1D3-02DE-4818-B0D4-CF6F4276C39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lter Specifi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H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st stay within the shaded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 that this is an incomplete specification.  The phase response and transient response are also important and need to be appropriate for the filter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447920" y="1676520"/>
            <a:ext cx="4230720" cy="3245400"/>
            <a:chOff x="1447920" y="1676520"/>
            <a:chExt cx="4230720" cy="3245400"/>
          </a:xfrm>
        </p:grpSpPr>
        <p:sp>
          <p:nvSpPr>
            <p:cNvPr id="73" name=""/>
            <p:cNvSpPr/>
            <p:nvPr/>
          </p:nvSpPr>
          <p:spPr>
            <a:xfrm flipV="1">
              <a:off x="2482920" y="1738440"/>
              <a:ext cx="1440" cy="17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482920" y="3505320"/>
              <a:ext cx="3006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47920" y="1676520"/>
              <a:ext cx="90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|H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|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69040" y="3635280"/>
              <a:ext cx="3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482920" y="2368440"/>
              <a:ext cx="1103400" cy="1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86320" y="2368440"/>
              <a:ext cx="1440" cy="1136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378240" y="3570120"/>
              <a:ext cx="29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41640" y="2198520"/>
              <a:ext cx="29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482920" y="2368440"/>
              <a:ext cx="1103400" cy="2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86320" y="2368440"/>
              <a:ext cx="199800" cy="11368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786120" y="3251160"/>
              <a:ext cx="1403280" cy="254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83080" y="3505320"/>
              <a:ext cx="1440" cy="1109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789360" y="3505320"/>
              <a:ext cx="1440" cy="1109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484360" y="3505320"/>
              <a:ext cx="1800" cy="1109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622600" y="3765600"/>
              <a:ext cx="892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ass b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64040" y="3765600"/>
              <a:ext cx="892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top b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57760" y="4614840"/>
              <a:ext cx="1647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ansition Reg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flipV="1">
              <a:off x="3651120" y="4484520"/>
              <a:ext cx="206640" cy="26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7D85-29EB-4BA8-A0FA-AA004F018F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87EF3F-A1A7-4867-95EC-B7F8A7F73E0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utterwor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1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ooth transfer function (no ripp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ally flat and Linear phase (in the pass-ban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 cutoff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1143000" y="1828800"/>
            <a:ext cx="5899320" cy="2044440"/>
            <a:chOff x="1143000" y="1828800"/>
            <a:chExt cx="5899320" cy="204444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1565280" y="1915920"/>
              <a:ext cx="5386680" cy="165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143000" y="1828800"/>
              <a:ext cx="96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|H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|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743200" y="3504960"/>
              <a:ext cx="27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05720" y="3429000"/>
              <a:ext cx="33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334120" y="1676520"/>
                <a:ext cx="28429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410080" y="2514600"/>
                <a:ext cx="21337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7504-FF17-41C6-9E4A-47E39141CA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F31F20-6C08-45FA-AA5F-A112E67419F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terworth Continu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e locations in the s-plane at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1 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(-1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(1/2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les are equally spaced on the unit circle a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k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2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(s) only uses the n poles in the left half plane for stabil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 are no z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5105520" y="1066680"/>
                <a:ext cx="23749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ω</m:t>
                            </m:r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3" name=""/>
          <p:cNvGrpSpPr/>
          <p:nvPr/>
        </p:nvGrpSpPr>
        <p:grpSpPr>
          <a:xfrm>
            <a:off x="1447920" y="2057400"/>
            <a:ext cx="5257800" cy="2971800"/>
            <a:chOff x="1447920" y="2057400"/>
            <a:chExt cx="5257800" cy="2971800"/>
          </a:xfrm>
        </p:grpSpPr>
        <p:pic>
          <p:nvPicPr>
            <p:cNvPr id="104" name="" descr=""/>
            <p:cNvPicPr/>
            <p:nvPr/>
          </p:nvPicPr>
          <p:blipFill>
            <a:blip r:embed="rId1"/>
            <a:stretch/>
          </p:blipFill>
          <p:spPr>
            <a:xfrm>
              <a:off x="1447920" y="2057400"/>
              <a:ext cx="3217680" cy="29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214960" y="3512880"/>
              <a:ext cx="149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 = 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34EF-0925-4C8B-BDB6-2A9F2B65079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47881F-F8D7-4BBF-A815-57ABD3BB133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tterworth Filter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H(s)| for n=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715000" cy="4229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400800" y="2133720"/>
            <a:ext cx="2286000" cy="22636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371600" y="57913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(s) = 1/( 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.6131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3.4142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2.6131s +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3FCE-D941-43C2-8ABC-34E7793A5E2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D52770-E568-473E-9BA3-E10D3047731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2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–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d equiripple in the pass-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arper cutoff than Butterwo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-linear phase (Group delay distortion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3352680" cy="2384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3047760" cy="21988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byshev – Typ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5029200" y="1066680"/>
                <a:ext cx="27907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H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2514600" y="3886200"/>
            <a:ext cx="2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3809880"/>
            <a:ext cx="33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2133720"/>
            <a:ext cx="9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|H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ilter Approximation Theor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279C-5EF7-4AED-BBF8-5FC19F58E3C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A6C607-C109-4B35-89BE-E05A8ED9D55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2T18:08:16Z</dcterms:created>
  <dc:creator>Jeffrey N Denenberg</dc:creator>
  <dc:description/>
  <dc:language>en-US</dc:language>
  <cp:lastModifiedBy>Jeffrey Denenberg</cp:lastModifiedBy>
  <dcterms:modified xsi:type="dcterms:W3CDTF">2005-06-13T12:56:45Z</dcterms:modified>
  <cp:revision>21</cp:revision>
  <dc:subject/>
  <dc:title>Filter Approximation Theory</dc:title>
</cp:coreProperties>
</file>