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DA9-F12B-43CD-BB24-911CAB283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C307-94EB-43F7-91F8-F5BB14AC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176E-4D6A-4AF3-88AA-D26AA455D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2AF-666C-4767-B4D7-084297DB1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A00F-2B92-484B-9762-4CFADCFC5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CF7A-96C9-4F80-89A4-E458F478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28CF-AFFF-41E2-88F0-29C39CD1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EDA-A701-4C83-891E-CFAF29A4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889-55B0-4564-B947-05FAA8B6C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C4E5-728F-41FA-80FA-134DD1D2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19BD-FC61-4359-BE69-3325BF88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6140-55C3-4896-A691-3DFAC1CF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CB226-FBF6-4E58-A97E-522E4DA8BF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1D15-3AFC-4294-B35E-DE22B2E82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286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3885840"/>
            <a:ext cx="79250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apted from a presentation in:</a:t>
            </a:r>
            <a:br>
              <a:rPr sz="2800"/>
            </a:b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mission Systems for Communic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ll Telephone Laboratories, 1970, Chapter 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1AD9-DB2C-4F77-B7AA-F3866080D032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C04F6A-2D3C-490F-9FD1-BB50F75FD7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ensity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371304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ea under a portion of this curve is the probability that the voltage lies in that reg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DF is zero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&gt;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438200" y="3645000"/>
          <a:ext cx="6870600" cy="2450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8200" y="3645000"/>
                    <a:ext cx="6870600" cy="24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4879800" y="1557360"/>
                <a:ext cx="2675160" cy="93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594320" y="2536920"/>
                <a:ext cx="288432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FD77-3554-4F08-92F6-368B1AEAD9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21373E-2462-47FB-BDD5-445BAB76A9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6120"/>
            <a:ext cx="77724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verage of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emble” Ave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e a large number of examples of the noise signal.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set of all examples is the “ensemble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any particular time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average the set of values of 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get the “Expected Value”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 time and ensemble averages give the same valu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y usually do), the noise process is said to be “Ergodic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495440" y="1833480"/>
                <a:ext cx="16336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n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</m:nary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1463760" y="4081320"/>
                <a:ext cx="2109600" cy="74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bar>
                    <m:r>
                      <m:t xml:space="preserve">=</m:t>
                    </m:r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K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3882960" y="4113360"/>
                <a:ext cx="417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r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for the infinite se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7E9-FB85-4586-90E3-C2AE1BA76D9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AAE8F-7601-44A3-BA59-72EE1C7AE8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704600"/>
            <a:ext cx="77724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calculate the ensemble average of our sinusoidal “noise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obviously zero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d symmetry, balance point, etc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it should since this noise the has no DC compone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365120" y="2563920"/>
                <a:ext cx="353376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365120" y="3416400"/>
                <a:ext cx="44164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7638-5073-47EB-BCB8-F03D850A95D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A895B-832C-4463-93C5-515ED9765B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[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 is also known as the “First Moment”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an also calculate other important moments of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  The “Second Central Moment” or “Variance”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for our sinusoidal noise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577880" y="1911240"/>
                <a:ext cx="32036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339920" y="3579840"/>
                <a:ext cx="57531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E</m:t>
                    </m:r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v</m:t>
                                </m:r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sSub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</m:e>
                                </m:ba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09840" y="4843440"/>
                <a:ext cx="361800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EC28-59F4-411D-A081-30F5119255B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85043-84FC-47FC-A4DD-C4B94F06CD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4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ng this requires “Integration by pa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719360" y="2637000"/>
                <a:ext cx="3219480" cy="100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19360" y="2049480"/>
                <a:ext cx="2827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t xml:space="preserve">∗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9440" y="3643200"/>
                <a:ext cx="5176800" cy="16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et        </m:t>
                        </m:r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π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 </m:t>
                        </m:r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rPr>
                            <m:lit/>
                            <m:nor/>
                          </m:rPr>
                          <m:t xml:space="preserve">  and  </m:t>
                        </m:r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and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1523880" y="5305320"/>
                <a:ext cx="56721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π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sup>
                    </m:sSup>
                    <m:sSubSup>
                      <m:e>
                        <m:r>
                          <m:t xml:space="preserve">|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A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  <m:sup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 flipV="1">
            <a:off x="2867040" y="5460840"/>
            <a:ext cx="839880" cy="852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51944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8942-C0C7-4CC5-867A-D8DB5B8C9F9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7FAB85-D09A-4A9B-B9E4-D4588AA90B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8920"/>
            <a:ext cx="7772400" cy="11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rages (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corresponds to the power of our sine wav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without the “squared”) is called the “Standard Deviation” of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noise and corresponds to the RMS value of th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370240" y="1482840"/>
                <a:ext cx="2789280" cy="33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π</m:t>
                                </m:r>
                              </m:den>
                            </m:f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</m:e>
                              <m:sup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π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867C-36F3-497E-AEDF-B93509157BB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2FEC6-096D-4C47-9AB5-2B5D64176E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ussian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ntral Limit Theor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probability density function for a random variable that is the result of adding the effects of many small contributors tends to be Gaussian as the number of contributors gets lar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746440" y="1436760"/>
                <a:ext cx="324468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σ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v</m:t>
                                    </m:r>
                                    <m:r>
                                      <m:t xml:space="preserve">−</m:t>
                                    </m:r>
                                    <m:bar>
                                      <m:barPr>
                                        <m:pos m:val="top"/>
                                      </m:barPr>
                                      <m:e>
                                        <m:r>
                                          <m:t xml:space="preserve">v</m:t>
                                        </m:r>
                                      </m:e>
                                    </m:ba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d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110" name=""/>
          <p:cNvGraphicFramePr/>
          <p:nvPr/>
        </p:nvGraphicFramePr>
        <p:xfrm>
          <a:off x="1800360" y="2303640"/>
          <a:ext cx="5543280" cy="217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303640"/>
                    <a:ext cx="5543280" cy="217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BB79-600C-4132-85C5-621B403C59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2C8C68-40C8-4BBA-8AB1-D0BC775F09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98520"/>
            <a:ext cx="777240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on Probability Density Functions: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onential Distrib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rs naturally in discrete “Poison Process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between occur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lephone ca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135160" y="1741320"/>
                <a:ext cx="44686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</m:e>
                    </m:d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λv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for v 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 0 , 0 for v 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 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15" name=""/>
          <p:cNvGraphicFramePr/>
          <p:nvPr/>
        </p:nvGraphicFramePr>
        <p:xfrm>
          <a:off x="1800360" y="2443320"/>
          <a:ext cx="5543280" cy="1971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2443320"/>
                    <a:ext cx="5543280" cy="19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B88-1941-4CF2-8952-C64062954F4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A2262C-B3DB-46DE-8CD9-D81B3DF4650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on Noise Sig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60D-EABE-421D-A841-CE03684E8A8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AC4D34-EBD8-4BBE-AFFA-1ACD2EF926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Brownian motion of electrons in a resistive materi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) = k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power spectr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 = 1.3805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oltzmann’s constan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is the absolute temperature (°Kelv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a “white” noise (“flat” spectrum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color ana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light has all colors at equal ener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bability distribution is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B04C-6230-451A-AB7B-9D764D49F6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EEA4-EF3A-4CCF-B210-222491B5A4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: An 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is noi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veforms with incomplete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alysis: how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at can we determin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sine waves of unknown ph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istribution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density function: p(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ver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probability density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60840" indent="-5173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in the real-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and Power Spectral den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8175-40E0-4241-815E-0029FBF924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B0443F-2324-4C8C-AF66-D5B623FD8B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mal Noise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59000"/>
            <a:ext cx="7772400" cy="47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ore accurate model (Quantum The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corrects for the high frequency roll off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bove 4000 GHz at room tempera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ower in the noise is sim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k*T*BW Watts  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-174 +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W) in dB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ecibels relative to a milliwat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dB = 1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/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20*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0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/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re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273400" y="1887480"/>
                <a:ext cx="247464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  <m:r>
                          <m:t xml:space="preserve">∗</m:t>
                        </m:r>
                        <m:r>
                          <m:t xml:space="preserve">f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  <m:r>
                                  <m:t xml:space="preserve">∗</m:t>
                                </m:r>
                                <m:r>
                                  <m:t xml:space="preserve">f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kT</m:t>
                                </m:r>
                              </m:e>
                            </m:d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B140-BAB5-44AD-9E12-2C7B1797789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5FF05-F931-4CEB-98A0-E9F5A3A23A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449280"/>
            <a:ext cx="77724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ot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irregular flow of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r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2*q*I*f  wher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 = 1.6 *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9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harge on an electr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noise is proportional to the signal leve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ot tempera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lso white (flat spectrum) and Gaussi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5C8-64A2-4AAB-A845-4968F95E4AA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E9356-9BED-4719-B0F9-1095F6E5329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/f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482840"/>
            <a:ext cx="7772400" cy="46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ted b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rregularities in semiconductor do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act no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many naturally occurring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ured silhouettes (Mountains, clouds, rocky walls, forest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f) =A / f </a:t>
            </a:r>
            <a:r>
              <a:rPr b="0" lang="en-US" sz="36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(0.8 &lt;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1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094E-F407-40D9-8D09-4385A8DAD81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C6C96-EEC7-4844-A45D-DF22E954BA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mpulse Nois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6680"/>
            <a:ext cx="777240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ndom energy spikes, clicks and po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sour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ght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hicle igni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a white noise, but NOT Gaussi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ng multiple sources - more impulse no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exception to the “Central Limit Theore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C66D-720F-4FEE-A896-75A5BB89BEE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738E52-FD19-4911-B307-2D394354BE6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Measur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Human 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ing L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is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-Weigh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012-FED1-4E5A-B4E9-23522837EF1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F675B-C6B8-4FD5-B3AA-1B7089CD04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aring Performance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an average, good, ear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1917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quency response is a function of sound le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 dB here is the threshold of he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intensities yield flatter 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Loudness" descr=""/>
          <p:cNvPicPr/>
          <p:nvPr/>
        </p:nvPicPr>
        <p:blipFill>
          <a:blip r:embed="rId1"/>
          <a:stretch/>
        </p:blipFill>
        <p:spPr>
          <a:xfrm>
            <a:off x="2846520" y="1981080"/>
            <a:ext cx="5611680" cy="3829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391-968B-426F-B7A3-B7357416D3D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07F39D-06F5-46CA-A651-00E70BF13E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8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ochle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62040"/>
            <a:ext cx="3873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fluid-filled spiral vibration 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fil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 frequencies travel the full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frequencies only affect the near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llia: hairs put out signals when 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aring damage occurs when these are inju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se at the near end are easily damaged (high frequency hearing lo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Cochlea" descr=""/>
          <p:cNvPicPr/>
          <p:nvPr/>
        </p:nvPicPr>
        <p:blipFill>
          <a:blip r:embed="rId1"/>
          <a:stretch/>
        </p:blipFill>
        <p:spPr>
          <a:xfrm>
            <a:off x="4730760" y="1752480"/>
            <a:ext cx="4000320" cy="313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5A39-1D12-4303-AD03-17998451D25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A9CEC0-51F0-4258-9E34-65D4C159EC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the threshold of hearing; used to specify OSHA safety levels (dBA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A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388-875E-4B8D-8846-AC8241F4E4F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7CC04-9D05-4C49-9C76-489C1248EF8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A-Weighting Fi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low is an active filter that will accurately perform A-Weighting for sound measurements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anks to: Rod Elliot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http://sound.westhost.com/project17.h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A-weight_schematic" descr=""/>
          <p:cNvPicPr/>
          <p:nvPr/>
        </p:nvPicPr>
        <p:blipFill>
          <a:blip r:embed="rId1"/>
          <a:stretch/>
        </p:blipFill>
        <p:spPr>
          <a:xfrm>
            <a:off x="947880" y="3627360"/>
            <a:ext cx="7246800" cy="246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149D-0B76-45F4-9663-59C95A202D7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31F7D-82F6-45B8-A8D1-A800334B51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2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 Intensity Levels: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- Weighted Fil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52318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s to the sensitivity of the ear at normal listening levels; used to specify noise in telephone systems (dBC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C-Weight_Curve" descr=""/>
          <p:cNvPicPr/>
          <p:nvPr/>
        </p:nvPicPr>
        <p:blipFill>
          <a:blip r:embed="rId1"/>
          <a:stretch/>
        </p:blipFill>
        <p:spPr>
          <a:xfrm>
            <a:off x="914400" y="1776240"/>
            <a:ext cx="7315200" cy="33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52C-D61B-42CB-87E9-5A0575DD8A9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B849C-4D3B-4AE7-A2C4-C0676BECEB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teri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equency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Se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ier Trans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B407-244C-48AD-A4F4-01B5ED38CF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3B978-44A3-4F0E-A658-AB47FA52AF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519120" y="1384200"/>
                <a:ext cx="8359920" cy="464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Energy in a time waveform,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sSup>
                              <m:e>
                                <m:r>
                                  <m:t xml:space="preserve">ε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jωt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s the Inverse Fourier Transform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t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</m:den>
                                </m:f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t xml:space="preserve">dω</m:t>
                                    </m:r>
                                  </m:e>
                                </m:nary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Substituting for one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nary>
                                  <m:naryPr>
                                    <m:chr m:val="∫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</m:d>
                                    <m:sSup>
                                      <m:e>
                                        <m:r>
                                          <m:t xml:space="preserve">ε</m:t>
                                        </m:r>
                                      </m:e>
                                      <m:sup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jωt</m:t>
                                        </m:r>
                                      </m:sup>
                                    </m:s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t</m:t>
                                    </m:r>
                                  </m:e>
                                </m:nary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Interchanging the order of integ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ut the inner integral is almost the Fourier Transform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xcept for the 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j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ω</m:t>
                                </m:r>
                              </m:e>
                            </m:d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but 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</m:e>
                        </m:d>
                        <m:r>
                          <m:t xml:space="preserve">=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/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e complex conjugate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F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dω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rPr>
                            <m:lit/>
                            <m:nor/>
                          </m:rPr>
                          <m:t xml:space="preserve">so </m:t>
                        </m:r>
                        <m:sSup>
                          <m:e>
                            <m:d>
                              <m:dPr>
                                <m:begChr m:val="|"/>
                                <m:endChr m:val="|"/>
                              </m:dPr>
                              <m:e>
                                <m:r>
                                  <m:t xml:space="preserve">F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is the </m:t>
                        </m:r>
                        <m:r>
                          <m:t xml:space="preserve">Energy</m:t>
                        </m:r>
                        <m:r>
                          <m:t xml:space="preserve">Spectral</m:t>
                        </m:r>
                        <m:r>
                          <m:t xml:space="preserve">Density</m:t>
                        </m:r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F0FE-F74E-414F-84F6-C2280A5F0767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5B8C3B-22E0-4E86-8495-9F8EF7B785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44240"/>
            <a:ext cx="7772400" cy="13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Spectral Density (ESD)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Linear Syst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757400"/>
            <a:ext cx="7772400" cy="13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fore the ESD of the output of a linear system is obtained by multiplying the ESD of the input by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|H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|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208296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84680" y="1752480"/>
            <a:ext cx="109224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76920" y="209556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35160" y="175896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876920" y="175896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= X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2960" y="1927080"/>
            <a:ext cx="9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(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495360" y="2438280"/>
                <a:ext cx="8356680" cy="231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Y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changing to f eliminates the 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  <m:r>
                                      <m:t xml:space="preserve">∗</m:t>
                                    </m:r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so if </m:t>
                        </m:r>
                        <m:r>
                          <m:t xml:space="preserve">H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nd </m:t>
                        </m:r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are uncorrelated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H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∗</m:t>
                            </m:r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D9B-C074-4469-A6C5-BDD9C43E7B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D246D-60F8-4AEE-A932-7B58154E559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434600"/>
            <a:ext cx="7772400" cy="9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 that exist for all time have an infinite energy so we define power 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82800" y="2590920"/>
                <a:ext cx="6700680" cy="366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sSup>
                                  <m:e>
                                    <m:r>
                                      <m:t xml:space="preserve">f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this is energy/time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efine 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≡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for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t</m:t>
                        </m:r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and zero elsewhere</m:t>
                        </m:r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which does exist and the Power is:</m:t>
                        </m:r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lim</m:t>
                              </m:r>
                            </m:e>
                          </m:mr>
                          <m:mr>
                            <m:e>
                              <m:r>
                                <m:t xml:space="preserve">t</m:t>
                              </m:r>
                              <m:r>
                                <m:t xml:space="preserve">→</m:t>
                              </m:r>
                              <m:r>
                                <m:t xml:space="preserve">∞</m:t>
                              </m:r>
                            </m:e>
                          </m:mr>
                        </m:m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m>
                                  <m:mr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lim</m:t>
                                      </m:r>
                                    </m:e>
                                  </m:mr>
                                  <m:mr>
                                    <m:e>
                                      <m:r>
                                        <m:t xml:space="preserve">t</m:t>
                                      </m:r>
                                      <m:r>
                                        <m:t xml:space="preserve">→</m:t>
                                      </m:r>
                                      <m:r>
                                        <m:t xml:space="preserve">∞</m:t>
                                      </m:r>
                                    </m:e>
                                  </m:mr>
                                </m:m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p>
                                          <m:e>
                                            <m:d>
                                              <m:dPr>
                                                <m:begChr m:val="|"/>
                                                <m:endChr m:val="|"/>
                                              </m:dPr>
                                              <m:e>
                                                <m:sSub>
                                                  <m:e>
                                                    <m:r>
                                                      <m:t xml:space="preserve">F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T</m:t>
                                                    </m:r>
                                                  </m:sub>
                                                </m:sSub>
                                                <m:d>
                                                  <m:dPr>
                                                    <m:begChr m:val="("/>
                                                    <m:endChr m:val=")"/>
                                                  </m:dPr>
                                                  <m:e>
                                                    <m:r>
                                                      <m:t xml:space="preserve">ω</m:t>
                                                    </m:r>
                                                  </m:e>
                                                </m:d>
                                              </m:e>
                                            </m:d>
                                          </m:e>
                                          <m:sup>
                                            <m:r>
                                              <m:t xml:space="preserve">2</m:t>
                                            </m:r>
                                          </m:sup>
                                        </m:sSup>
                                      </m:num>
                                      <m:den>
                                        <m:r>
                                          <m:t xml:space="preserve">T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f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E43-70E3-408D-BBE3-E8D2A76247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58993-E1A2-4D80-BEB5-302C3A0D22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wer Spectral Density (PSD-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434960"/>
            <a:ext cx="7772400" cy="471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before, the function in the integral is a density.  This time it’s the 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the ESD and PSD functions are real and even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706400" y="2286000"/>
                <a:ext cx="3221280" cy="11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SD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</m:mr>
                      <m:mr>
                        <m:e>
                          <m:r>
                            <m:t xml:space="preserve">t</m:t>
                          </m:r>
                          <m:r>
                            <m:t xml:space="preserve">→</m:t>
                          </m:r>
                          <m:r>
                            <m:t xml:space="preserve">∞</m:t>
                          </m:r>
                        </m:e>
                      </m:mr>
                    </m:m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d>
                                  <m:dPr>
                                    <m:begChr m:val="|"/>
                                    <m:endChr m:val="|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F</m:t>
                                        </m:r>
                                      </m:e>
                                      <m:sub>
                                        <m:r>
                                          <m:t xml:space="preserve">T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B50A-6309-41FE-BE92-9F6C093A2CC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5DC0A-C1BE-494E-88D8-8CC2825AF4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undesired signal that interferes with the reproduction of a desired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teg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istic: predictable, often periodic, noi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ten generated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: unpredictable noise, generated by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stochastic” process in nature or by mach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0C1F-DF26-4199-86F6-C95996EE2B1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6E3465-482D-416B-8864-20875ADE10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ndom Noi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predic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ribution” of valu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spectrum: distribution of energ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as a function of frequenc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cannot know the details of the waveform only its “average” behavi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87F8-942B-4FE4-8CE7-36A3978C965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433D8-C120-45B1-BB83-74423F679C7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ise analysis Introduction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ne wave of unknown ph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requency interfer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(t) = A sin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n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re known, but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not kn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not know its value at time “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828800" y="3276720"/>
            <a:ext cx="4676760" cy="2990880"/>
            <a:chOff x="1828800" y="3276720"/>
            <a:chExt cx="4676760" cy="2990880"/>
          </a:xfrm>
        </p:grpSpPr>
        <p:graphicFrame>
          <p:nvGraphicFramePr>
            <p:cNvPr id="54" name=""/>
            <p:cNvGraphicFramePr/>
            <p:nvPr/>
          </p:nvGraphicFramePr>
          <p:xfrm>
            <a:off x="1828800" y="3276720"/>
            <a:ext cx="4676760" cy="29908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28800" y="3276720"/>
                      <a:ext cx="4676760" cy="299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" name=""/>
            <p:cNvSpPr/>
            <p:nvPr/>
          </p:nvSpPr>
          <p:spPr>
            <a:xfrm>
              <a:off x="3581280" y="3657600"/>
              <a:ext cx="0" cy="20574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D481-C227-4F3B-A2F8-EE49574BDE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A902B-DDB1-40C0-9C1F-8D930585031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ergy Spectral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 the “Energy Spectral Density” is just the magnitude squared of the Fourier transform of n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ce all of the energy is concentrated 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each half of the energy is at ±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nce the Fourier transform is based on the complex exponential not sine and cos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523880" y="2438280"/>
                <a:ext cx="57150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ω</m:t>
                                </m:r>
                              </m:e>
                            </m: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r>
                          <m:t xml:space="preserve">δ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ω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ω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" name=""/>
          <p:cNvGrpSpPr/>
          <p:nvPr/>
        </p:nvGrpSpPr>
        <p:grpSpPr>
          <a:xfrm>
            <a:off x="1752480" y="4343400"/>
            <a:ext cx="5543640" cy="1971720"/>
            <a:chOff x="1752480" y="4343400"/>
            <a:chExt cx="5543640" cy="1971720"/>
          </a:xfrm>
        </p:grpSpPr>
        <p:graphicFrame>
          <p:nvGraphicFramePr>
            <p:cNvPr id="61" name=""/>
            <p:cNvGraphicFramePr/>
            <p:nvPr/>
          </p:nvGraphicFramePr>
          <p:xfrm>
            <a:off x="1752480" y="4343400"/>
            <a:ext cx="5543640" cy="19717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752480" y="4343400"/>
                      <a:ext cx="5543640" cy="197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3" name=""/>
            <p:cNvSpPr/>
            <p:nvPr/>
          </p:nvSpPr>
          <p:spPr>
            <a:xfrm>
              <a:off x="2846520" y="5029200"/>
              <a:ext cx="144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08560" y="5029200"/>
              <a:ext cx="1800" cy="876240"/>
            </a:xfrm>
            <a:custGeom>
              <a:avLst/>
              <a:gdLst/>
              <a:ahLst/>
              <a:rect l="l" t="t" r="r" b="b"/>
              <a:pathLst>
                <a:path w="1" h="552">
                  <a:moveTo>
                    <a:pt x="1" y="55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B7BB-BC90-4015-BFD0-08BC3C2D45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8CDC6-C47D-4B11-9058-A78BF7320B2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95080"/>
            <a:ext cx="7772400" cy="46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“distribution” of the ‘noise”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probability that at any time t the voltage is less than or equal to a particular value “v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babilities at some values are eas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-A)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A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(0) = 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arcsin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5013360" y="2320920"/>
                <a:ext cx="19605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  <m:r>
                      <m:t xml:space="preserve">≡</m:t>
                    </m:r>
                    <m:r>
                      <m:t xml:space="preserve">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v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68" name=""/>
          <p:cNvGraphicFramePr/>
          <p:nvPr/>
        </p:nvGraphicFramePr>
        <p:xfrm>
          <a:off x="1800360" y="4414680"/>
          <a:ext cx="554328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0360" y="4414680"/>
                    <a:ext cx="554328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7207200" y="505296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63B-CC8D-4AEB-9911-2185462D11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3EAF0-B862-4F60-A40D-D05FEA7D60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95280"/>
            <a:ext cx="777240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ty Distribution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68600"/>
            <a:ext cx="777240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ctual equation is: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= ½ + (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/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arcsin(v/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that the noise spends more time near the extremes and less time near zero.  Think of a pendulu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stops at the extremes and is moving slowly near th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t move fastest at the bottom and therefore spends less time the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other useful function is the derivative of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: th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Probability Density Function”, p(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  (note the lower cas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392120" y="2128680"/>
          <a:ext cx="5543640" cy="1971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2120" y="2128680"/>
                    <a:ext cx="5543640" cy="197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784920" y="2792520"/>
            <a:ext cx="16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own for A=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oise: An Introducti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5476-DB4C-4870-A9F8-480218B3DF0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EFB6FD-38E7-4751-B63C-2F39F5E215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5T04:07:05Z</dcterms:created>
  <dc:creator>Jeffrey N. Denenberg</dc:creator>
  <dc:description/>
  <dc:language>en-US</dc:language>
  <cp:lastModifiedBy>Jeffrey N Denenberg</cp:lastModifiedBy>
  <cp:lastPrinted>2002-11-24T18:12:09Z</cp:lastPrinted>
  <dcterms:modified xsi:type="dcterms:W3CDTF">2002-11-24T18:18:55Z</dcterms:modified>
  <cp:revision>234</cp:revision>
  <dc:subject/>
  <dc:title>Noise: An Introduction</dc:title>
</cp:coreProperties>
</file>