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7BE-54F9-47E5-B911-E74E74E7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68C-A1B3-49E7-AA5A-EC4042B0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A2A7-02D2-4357-936D-B0811B4B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7E4-B73A-4523-A5F2-9D05DCDB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5D5B-352E-4848-83DD-62F00FB1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3D8-DB71-4098-B77B-98794BC4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404-6B66-4A77-B349-099ED871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2A25-800A-48EA-B917-CAFCB2E7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6E4-68A8-46B6-AA56-8DFC23FC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83E-6A1A-4736-903F-A5236F9C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E766-A1D0-4F11-BF6E-C7708907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24B-9DFA-4099-8C7C-59716120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6D43-4E59-47A2-A599-D27694EAD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eview Signal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94000" y="1625760"/>
            <a:ext cx="4896000" cy="3670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code for sine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8600" y="2060280"/>
            <a:ext cx="81468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s  = 1.8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 = 10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 = pi/3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1 = -0.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step = 0.0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2 = 0.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= t1:tstep:t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= Xs*sin(2*pi*fs*t+fi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lot(t, x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label('x_s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itle('x_s(t) = X_s sin(2 \pi f_s t + \phi_s)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rid 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95640" y="1306440"/>
            <a:ext cx="5038920" cy="3778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dvanced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cod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3640" y="2420640"/>
            <a:ext cx="856908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s  = 1.8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 = 10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 = pi/3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1 = -0.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2 = 0.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= inline('Xs*sin(2*pi*fs*t+fi)','t','Xs','fs','fi'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plot(x,t,2e-3,1,'-',Xs,fs,fi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label('t'); ylabel('x_s'); grid 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itle('x_s(t) = X_s sin(2 \pi f_s t + \phi_s)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95640" y="2997360"/>
            <a:ext cx="5038920" cy="37782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ponential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408480" y="1574640"/>
                <a:ext cx="22683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79280" y="2660760"/>
            <a:ext cx="62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Xe*exp(b*t)','t','Xe','b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e  = 0.8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= -0.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t,2e-3,1,'-',Xe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x_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x_e(t) = X_e e^{b t}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ri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97440" y="296388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step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67000" y="1380960"/>
                <a:ext cx="260820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250920" y="2997360"/>
            <a:ext cx="36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t&gt;0', 't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-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 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u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step signal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t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24560" y="3000240"/>
            <a:ext cx="4411440" cy="3308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ulse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48000" y="1413000"/>
                <a:ext cx="24400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t</m:t>
                            </m:r>
                            <m:r>
                              <m:t xml:space="preserve">≤</m:t>
                            </m:r>
                            <m:r>
                              <m:t xml:space="preserve">ε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50920" y="2646360"/>
            <a:ext cx="705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(1/e)*((t&gt;0)&amp;(t&lt;=e))','t','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 = 1/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t,1e-5,1000,'-'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gca,'FontSize',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p_\epsilon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t -0.1 1.1/e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Pulse function, \epsilon = 1/100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impulse signal (Dirac delta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203640" y="2133720"/>
                <a:ext cx="26416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78160" y="3454560"/>
                <a:ext cx="249084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68680" y="4430880"/>
                <a:ext cx="1963800" cy="13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ignal is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aus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it is zero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&lt;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ausal signals are readily created by multiplying any continuous signal by the unit step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instant when the signal begins is called th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starting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usually take the starting time to b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zer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064040" y="220500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ignals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967040"/>
            <a:ext cx="410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B = 0.0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 = 0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f = 0.5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hi = 3*pi/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 = -5:0.05: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B^a*exp(-a*t).*sin(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2*pi*f*t+ph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u = x.*(t&gt;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 = (t&gt;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t,x,t,u,t,x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t (s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0,1.2,'u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-4,-1.1,'x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5,-.6,'x(t)*u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t(1) t(end) -1.5 1.5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Discrete-time signal – Sequence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(discrete-time signal, discrete signal, data sequence, or sample set) is a collection of ordered samp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practical applications we process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inite-length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equen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existing sequence is often a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ampled version of a continuous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349360" y="1346040"/>
                <a:ext cx="43862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k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inusoid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4600" y="2421000"/>
            <a:ext cx="1292400" cy="403200"/>
          </a:xfrm>
          <a:prstGeom prst="borderCallout1">
            <a:avLst>
              <a:gd name="adj1" fmla="val 18750"/>
              <a:gd name="adj2" fmla="val -8333"/>
              <a:gd name="adj3" fmla="val -70865"/>
              <a:gd name="adj4" fmla="val 272606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2349360"/>
            <a:ext cx="1728720" cy="719280"/>
          </a:xfrm>
          <a:prstGeom prst="borderCallout1">
            <a:avLst>
              <a:gd name="adj1" fmla="val 18750"/>
              <a:gd name="adj2" fmla="val -8333"/>
              <a:gd name="adj3" fmla="val -29578"/>
              <a:gd name="adj4" fmla="val -47842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ase in radian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3645000"/>
            <a:ext cx="1728720" cy="431640"/>
          </a:xfrm>
          <a:prstGeom prst="borderCallout1">
            <a:avLst>
              <a:gd name="adj1" fmla="val 18750"/>
              <a:gd name="adj2" fmla="val -8333"/>
              <a:gd name="adj3" fmla="val -362500"/>
              <a:gd name="adj4" fmla="val -87879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ampl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89080" y="296388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740720" y="4508640"/>
            <a:ext cx="1143000" cy="431640"/>
          </a:xfrm>
          <a:prstGeom prst="borderCallout1">
            <a:avLst>
              <a:gd name="adj1" fmla="val 18750"/>
              <a:gd name="adj2" fmla="val -8333"/>
              <a:gd name="adj3" fmla="val -494851"/>
              <a:gd name="adj4" fmla="val -216111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inuous or analog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crete-time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sic analog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sic discrete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uantized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gital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usal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ndom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presentation of signals in 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LA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ponenti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502080" y="1555920"/>
                <a:ext cx="2079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179280" y="2660760"/>
            <a:ext cx="3816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e  = 0.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= 0.75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e*a.^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x_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x_{e,k} = X_e a^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97440" y="2530440"/>
            <a:ext cx="50385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step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303720" y="1380960"/>
                <a:ext cx="25336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250920" y="2997360"/>
            <a:ext cx="39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-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(k&gt;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u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step sequenc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k1 k2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97440" y="2746440"/>
            <a:ext cx="50385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067280" y="281952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impulse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303720" y="1380960"/>
                <a:ext cx="25336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50920" y="2997360"/>
            <a:ext cx="432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-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(k=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\delta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impulse sequenc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k1 k2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equence that is nonzero only over a finite interval of indices is called a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finite-length sequen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equence whose samples are zero-valued for negative indices is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aus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Anti-causal sequen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can hav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onzero samples only for negative indi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equences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557360"/>
            <a:ext cx="424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B = 0.94; a = 0.1; f = 0.3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k = -10:1: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(B.^k).*cos(2*pi*f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 = (k&gt;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x = x.*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u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u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k(1) k(end) -2 2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,'b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ux,'r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 u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k(1) k(end) -2 2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759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Quantized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purpose of sampling a continuous signal is to transmit, store, or process a limited number of samples that are represented by a limited number of digi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y using fewer digits we attain faster transmission and smaller storage requirements for the infor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utilize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quantized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amples rather than the true samples of infinite accurac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hoice of digits for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oice of digits for quantization should be done properly: in transmitting, storing, and processing we prefer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ess digi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ith too small a number of digits we can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os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nformation from the original sign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opposing requirements must be satisfie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inimize number of digits to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acilitate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the signal transmission or storing, an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aximize number of digits to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ep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the quantization error as low as necessary in order to preserve the inform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gital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2001960"/>
            <a:ext cx="43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 = 0:3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0.2+2*sin(0.245*t+0.1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d = 0.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q = d*round(x/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t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t,xq,'r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(t), x_q(k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analog signal'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digital (quantized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22720" y="1538280"/>
            <a:ext cx="49500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terministic and random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gnal that can be described by an explicit mathematical form i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eterminist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terministic signal can be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periodi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period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iodic signal consists of a basic shape of finite duration that is replicated infinite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gnal that cannot be described in an explicit mathematical form is called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rando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also known as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nondeterministi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tochast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603600" y="2251080"/>
            <a:ext cx="5502240" cy="38703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andom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1633680"/>
            <a:ext cx="54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k = 0:1: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</a:t>
            </a:r>
            <a:r>
              <a:rPr b="1" lang="fr-FR" sz="1800" spc="-1" strike="noStrike">
                <a:solidFill>
                  <a:srgbClr val="800000"/>
                </a:solidFill>
                <a:latin typeface="Courier New"/>
              </a:rPr>
              <a:t>rand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(size(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m = mea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 = std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m m],'r'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s s]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tick = [0 s m 1]; set(gca,'YTick',y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random seq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mean','st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itle('Uniformly distributed samp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a signal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physical quantity, or quality, which conveys infor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ample: voice of my friend is a signal which causes me to perform certain actions or react in a particular wa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y friend's voice is called an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excit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y action or reaction is called 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5600" y="1822320"/>
            <a:ext cx="5613480" cy="43434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andom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1633680"/>
            <a:ext cx="54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k = 0:1: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</a:t>
            </a:r>
            <a:r>
              <a:rPr b="1" lang="fr-FR" sz="1800" spc="-1" strike="noStrike">
                <a:solidFill>
                  <a:srgbClr val="800000"/>
                </a:solidFill>
                <a:latin typeface="Courier New"/>
              </a:rPr>
              <a:t>randn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(size(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m = mea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 = std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m m],'r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s s]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random seq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mean','st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tick = sort([-2 s m 2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et(gca,'YTick',y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itle('Normally distributed samp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signal processing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conversion from excitation to response is called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ignal process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typical reason for signal processing is to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liminate or redu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 undesirable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ver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he original signal into a form that is suitable for further process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ne fundamental representation of a signal is as a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at least one independent variab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a waveform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variation of the signal value as a function of the independent variable is called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wavefor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independent variable often represent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define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ign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s a function of one independent variable that contains information about the behavior or nature of a phenomen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assume that the independent variable is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ven in cases where the independent variable is a physical quantity other than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tinuous or analog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tinuous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signal that exists at every instant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the jargon of the trade, a continuous signal is often referred to as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tinuous tim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analo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independent variable is a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tinuou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variab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tinuous signal can assum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y valu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ver a continuous range of numb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screte-time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ignal defined only for discrete values of time is called 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discrete-time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r simply a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discrete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crete signal can be obtained by taking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ample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an analog signal at discrete instants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Digital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discrete-time signal whose values are represented by digi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sampling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ampling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capturing a signal at an instant in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ampling means taking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mplitude value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the signal at certain time instan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Uniform sampling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sampling ever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units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506760" y="4484520"/>
                <a:ext cx="5294520" cy="7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419640" y="5373720"/>
                <a:ext cx="12855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95360" y="5229360"/>
            <a:ext cx="1871640" cy="1152360"/>
          </a:xfrm>
          <a:prstGeom prst="wedgeRoundRectCallout">
            <a:avLst>
              <a:gd name="adj1" fmla="val 100722"/>
              <a:gd name="adj2" fmla="val 12398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frequency or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ampling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5816520"/>
            <a:ext cx="2089080" cy="792360"/>
          </a:xfrm>
          <a:prstGeom prst="wedgeRoundRectCallout">
            <a:avLst>
              <a:gd name="adj1" fmla="val -86930"/>
              <a:gd name="adj2" fmla="val 4912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tep or </a:t>
            </a:r>
            <a:br>
              <a:rPr sz="1800"/>
            </a:b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ample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538360" y="1631880"/>
                <a:ext cx="4008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7245360" y="4797360"/>
            <a:ext cx="1584360" cy="647640"/>
          </a:xfrm>
          <a:prstGeom prst="borderCallout1">
            <a:avLst>
              <a:gd name="adj1" fmla="val 18750"/>
              <a:gd name="adj2" fmla="val -8333"/>
              <a:gd name="adj3" fmla="val -393138"/>
              <a:gd name="adj4" fmla="val -11953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requency in Hertz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15920" y="2938320"/>
            <a:ext cx="5038920" cy="377856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inusoidal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4600" y="2421000"/>
            <a:ext cx="1292400" cy="403200"/>
          </a:xfrm>
          <a:prstGeom prst="borderCallout1">
            <a:avLst>
              <a:gd name="adj1" fmla="val 18750"/>
              <a:gd name="adj2" fmla="val -8333"/>
              <a:gd name="adj3" fmla="val -34250"/>
              <a:gd name="adj4" fmla="val 289189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2349360"/>
            <a:ext cx="1728720" cy="719280"/>
          </a:xfrm>
          <a:prstGeom prst="borderCallout1">
            <a:avLst>
              <a:gd name="adj1" fmla="val 18750"/>
              <a:gd name="adj2" fmla="val -8333"/>
              <a:gd name="adj3" fmla="val -18324"/>
              <a:gd name="adj4" fmla="val -63453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ase in radian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6000" y="3645000"/>
            <a:ext cx="1728720" cy="718920"/>
          </a:xfrm>
          <a:prstGeom prst="borderCallout1">
            <a:avLst>
              <a:gd name="adj1" fmla="val 18750"/>
              <a:gd name="adj2" fmla="val -8333"/>
              <a:gd name="adj3" fmla="val -200662"/>
              <a:gd name="adj4" fmla="val -95685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ime in seconds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4-11-29T14:55:22Z</dcterms:modified>
  <cp:revision>73</cp:revision>
  <dc:subject>Analog and Digital  Filter Design</dc:subject>
  <dc:title>Rewiev signals</dc:title>
</cp:coreProperties>
</file>