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36FD-726C-40A4-9293-BFC0351A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7442-2751-4305-B99F-2AC1BBA5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3422-AA5E-46EF-9598-3B2EFFC1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1083-56EA-434B-9226-27E46415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71F6-804B-4D9C-B916-AB20C8A2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5F69-8D62-4AFE-8EDB-59C62F1A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BE2A-9572-4748-A832-21B6F0D7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89BC-50DA-4388-8504-9262AEDD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5005-CDAE-4757-8080-AEDF1255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E5AE-879D-42CE-8A62-92FCA464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AFAC-55B1-4FC6-95A8-2EF6487B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46B9-2FBB-4982-A9FB-79C09D1D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988A-0BF3-4224-9CAA-2119F42CB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pecification of an analog filter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Magnitude-tolerance specification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490760" y="1566720"/>
          <a:ext cx="6164280" cy="37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0760" y="1566720"/>
                    <a:ext cx="6164280" cy="37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2338560" y="5384880"/>
          <a:ext cx="4466880" cy="78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5384880"/>
                    <a:ext cx="446688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gnitude-ripple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95440" y="1504800"/>
          <a:ext cx="6153120" cy="384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5440" y="1504800"/>
                    <a:ext cx="615312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2724120" y="5430960"/>
          <a:ext cx="3695760" cy="59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24120" y="5430960"/>
                    <a:ext cx="36957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ttenuation-limit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38360" y="1438200"/>
          <a:ext cx="586728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1438200"/>
                    <a:ext cx="586728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643120" y="5568840"/>
          <a:ext cx="385776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3120" y="5568840"/>
                    <a:ext cx="38577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ain-limit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90840" y="1457280"/>
          <a:ext cx="5962320" cy="39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0840" y="1457280"/>
                    <a:ext cx="596232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633760" y="5459400"/>
          <a:ext cx="387648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3760" y="5459400"/>
                    <a:ext cx="38764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Characteristic-function-limit specification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619280" y="1628640"/>
          <a:ext cx="5905440" cy="36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28640"/>
                    <a:ext cx="590544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2509920" y="5416560"/>
          <a:ext cx="4124160" cy="6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920" y="5416560"/>
                    <a:ext cx="4124160" cy="6764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We convert all specs into characteristic-function-limit spec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8000" y="1773360"/>
          <a:ext cx="246708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773360"/>
                    <a:ext cx="246708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203640" y="1484280"/>
          <a:ext cx="2657520" cy="15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1484280"/>
                    <a:ext cx="265752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6307200" y="1844640"/>
          <a:ext cx="2657520" cy="166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7200" y="1844640"/>
                    <a:ext cx="26575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08000" y="5013360"/>
          <a:ext cx="2533680" cy="1752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8000" y="5013360"/>
                    <a:ext cx="25336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516720" y="5084640"/>
          <a:ext cx="2523960" cy="165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16720" y="5084640"/>
                    <a:ext cx="252396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2535120" y="3500280"/>
          <a:ext cx="3981600" cy="2343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35120" y="3500280"/>
                    <a:ext cx="3981600" cy="23432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1258920" y="2637000"/>
            <a:ext cx="1081080" cy="165564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258920" y="4797360"/>
            <a:ext cx="1081080" cy="122400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6805080" y="4797360"/>
            <a:ext cx="1079640" cy="122400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804000" y="2637000"/>
            <a:ext cx="936720" cy="165564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421000"/>
            <a:ext cx="0" cy="100800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609300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e pp.247-248 for conversion form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ototype elliptic approxim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671480" y="1419120"/>
          <a:ext cx="5801040" cy="40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1480" y="1419120"/>
                    <a:ext cx="580104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095640" y="5641920"/>
          <a:ext cx="295272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5640" y="5641920"/>
                    <a:ext cx="2952720" cy="6667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lliptic design parame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elliptic rational function; it is a ratio of two polynomials in real variabl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0" i="1" lang="en-US" sz="3200" spc="-1" strike="noStrike">
                <a:solidFill>
                  <a:srgbClr val="800000"/>
                </a:solidFill>
                <a:latin typeface="Arial"/>
              </a:rPr>
              <a:t>order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s the </a:t>
            </a:r>
            <a:r>
              <a:rPr b="0" i="1" lang="en-US" sz="3200" spc="-1" strike="noStrike">
                <a:solidFill>
                  <a:srgbClr val="800000"/>
                </a:solidFill>
                <a:latin typeface="Arial"/>
              </a:rPr>
              <a:t>selectivity facto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s the </a:t>
            </a:r>
            <a:r>
              <a:rPr b="0" i="1" lang="en-US" sz="3200" spc="-1" strike="noStrike">
                <a:solidFill>
                  <a:srgbClr val="800000"/>
                </a:solidFill>
                <a:latin typeface="Arial"/>
              </a:rPr>
              <a:t>ripple facto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0" i="1" lang="en-US" sz="3200" spc="-1" strike="noStrike">
                <a:solidFill>
                  <a:srgbClr val="800000"/>
                </a:solidFill>
                <a:latin typeface="Arial"/>
              </a:rPr>
              <a:t>actual passband edg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95640" y="5589720"/>
            <a:ext cx="2952720" cy="666720"/>
          </a:xfrm>
          <a:prstGeom prst="rect">
            <a:avLst/>
          </a:prstGeom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graphicFrame>
        <p:nvGraphicFramePr>
          <p:cNvPr id="141" name=""/>
          <p:cNvGraphicFramePr/>
          <p:nvPr/>
        </p:nvGraphicFramePr>
        <p:xfrm>
          <a:off x="6732720" y="5516640"/>
          <a:ext cx="160020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720" y="5516640"/>
                    <a:ext cx="1600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spa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552760" y="3495600"/>
          <a:ext cx="4038480" cy="5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2760" y="3495600"/>
                    <a:ext cx="40384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433520" y="4241880"/>
          <a:ext cx="6276960" cy="20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3520" y="4241880"/>
                    <a:ext cx="6276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755640" y="1989000"/>
          <a:ext cx="287640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1989000"/>
                    <a:ext cx="28764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5003640" y="2131920"/>
            <a:ext cx="3745080" cy="1152720"/>
          </a:xfrm>
          <a:prstGeom prst="wedgeRoundRectCallout">
            <a:avLst>
              <a:gd name="adj1" fmla="val -87305"/>
              <a:gd name="adj2" fmla="val -38152"/>
              <a:gd name="adj3" fmla="val 16667"/>
            </a:avLst>
          </a:prstGeom>
          <a:solidFill>
            <a:srgbClr val="ffffcc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set of all quadruple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for a given specification, is called the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desig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FDesign D5 alternativ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mportance of analog filter specific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ays in presenting the specific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asic filter functions: frequency response, attenuation, gain, characteristic function 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rototype elliptic approxim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lliptic design paramet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sign sp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design example Lecture12.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iven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sign a lowpass filter that satisfies the following specification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p = 3000 H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s = 3225 H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p = 0.2 dB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 = 40 dB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real life, practical element values are significant to about 3 digits, temperature changes element values, etc., so we choose a more restrictive specification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p = 3000 H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s = 3225 H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p =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0.05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dB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 =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45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dB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strategy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oose RLC singly terminated ladder realization with complex zero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plore two design alternatives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atlab default design D3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inimal Q-factor design D5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se AFDesign to find transfer fun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pute element values (see previous lecture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ound element values to 3 digits of precis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alidate desig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default design is D3a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990880" y="1484280"/>
          <a:ext cx="3162240" cy="49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0880" y="1484280"/>
                    <a:ext cx="316224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3a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866960" y="160020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5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66960" y="160020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66960" y="1600200"/>
            <a:ext cx="5410080" cy="47815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3a violates given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51640" y="3213000"/>
            <a:ext cx="1584360" cy="1152720"/>
          </a:xfrm>
          <a:prstGeom prst="wedgeRectCallout">
            <a:avLst>
              <a:gd name="adj1" fmla="val -107814"/>
              <a:gd name="adj2" fmla="val 112532"/>
            </a:avLst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3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(red) violates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given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5229360"/>
            <a:ext cx="1513080" cy="1152360"/>
          </a:xfrm>
          <a:prstGeom prst="wedgeRectCallout">
            <a:avLst>
              <a:gd name="adj1" fmla="val 187564"/>
              <a:gd name="adj2" fmla="val -128925"/>
            </a:avLst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5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(blue) satisfies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given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lement valu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66960" y="1600200"/>
            <a:ext cx="5410080" cy="478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"/>
          <p:cNvGraphicFramePr/>
          <p:nvPr/>
        </p:nvGraphicFramePr>
        <p:xfrm>
          <a:off x="879480" y="1341360"/>
          <a:ext cx="1676520" cy="29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9480" y="1341360"/>
                    <a:ext cx="1676520" cy="295272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7020000" y="3141720"/>
          <a:ext cx="1790640" cy="360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20000" y="3141720"/>
                    <a:ext cx="1790640" cy="36003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Importance of filter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sually, the filter specification is give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many cases the designer has to establish the specification by himself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pecification is the most important prerequisite for the filter desig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the specification is too restrictive (e.g., very low passband and stopband tolerances, narrow transition region), the filter may not be feasible!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ow to choose specification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proper selection of the specification must be done according to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 nature of signals (i.e., frequency bands and the corresponding levels of the desired and undesired signals or noise)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 available hardware (element tolerances, parasitic effects, etc.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re are several ways in presenting the analog filter specific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gnitude and phase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620800" y="2084400"/>
          <a:ext cx="389592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0" y="2084400"/>
                    <a:ext cx="389592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08000" y="3627360"/>
            <a:ext cx="3313080" cy="505080"/>
          </a:xfrm>
          <a:prstGeom prst="wedgeRoundRectCallout">
            <a:avLst>
              <a:gd name="adj1" fmla="val 64662"/>
              <a:gd name="adj2" fmla="val 136162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itud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5068800"/>
            <a:ext cx="2594160" cy="505080"/>
          </a:xfrm>
          <a:prstGeom prst="wedgeRoundRectCallout">
            <a:avLst>
              <a:gd name="adj1" fmla="val 93208"/>
              <a:gd name="adj2" fmla="val 142138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has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08000" y="1536840"/>
          <a:ext cx="326700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1536840"/>
                    <a:ext cx="32670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697360" y="1593720"/>
          <a:ext cx="3267360" cy="46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97360" y="1593720"/>
                    <a:ext cx="326736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995640" y="3916440"/>
                <a:ext cx="248436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995640" y="5716440"/>
                <a:ext cx="25290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−</m:t>
                    </m:r>
                    <m:r>
                      <m:t xml:space="preserve">ζ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requency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481560" y="2060640"/>
                <a:ext cx="21700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08000" y="1557360"/>
            <a:ext cx="2881440" cy="503280"/>
          </a:xfrm>
          <a:prstGeom prst="wedgeRoundRectCallout">
            <a:avLst>
              <a:gd name="adj1" fmla="val 65263"/>
              <a:gd name="adj2" fmla="val 150629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fer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572000" y="5734080"/>
                <a:ext cx="41259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179280" y="6237360"/>
            <a:ext cx="3313080" cy="504720"/>
          </a:xfrm>
          <a:prstGeom prst="wedgeRoundRectCallout">
            <a:avLst>
              <a:gd name="adj1" fmla="val 79708"/>
              <a:gd name="adj2" fmla="val -60064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requency respon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6200" y="3429000"/>
            <a:ext cx="3313440" cy="504720"/>
          </a:xfrm>
          <a:prstGeom prst="wedgeRoundRectCallout">
            <a:avLst>
              <a:gd name="adj1" fmla="val -2421"/>
              <a:gd name="adj2" fmla="val 134907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itud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3284640"/>
            <a:ext cx="2593800" cy="504720"/>
          </a:xfrm>
          <a:prstGeom prst="wedgeRoundRectCallout">
            <a:avLst>
              <a:gd name="adj1" fmla="val -60833"/>
              <a:gd name="adj2" fmla="val 148111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has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87280" y="4508640"/>
                <a:ext cx="30607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148360" y="4564080"/>
                <a:ext cx="34160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oss and characteristic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1844640"/>
            <a:ext cx="2232000" cy="503280"/>
          </a:xfrm>
          <a:prstGeom prst="wedgeRoundRectCallout">
            <a:avLst>
              <a:gd name="adj1" fmla="val 68703"/>
              <a:gd name="adj2" fmla="val 147791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ss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935440" y="2131920"/>
                <a:ext cx="323820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612880" y="4583160"/>
                <a:ext cx="39038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79280" y="3573360"/>
            <a:ext cx="2232000" cy="792360"/>
          </a:xfrm>
          <a:prstGeom prst="wedgeRoundRectCallout">
            <a:avLst>
              <a:gd name="adj1" fmla="val 56685"/>
              <a:gd name="adj2" fmla="val 159819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aracteristic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ttenuation and gai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1844640"/>
            <a:ext cx="2232000" cy="503280"/>
          </a:xfrm>
          <a:prstGeom prst="wedgeRoundRectCallout">
            <a:avLst>
              <a:gd name="adj1" fmla="val 68703"/>
              <a:gd name="adj2" fmla="val 147791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ten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247840" y="2997360"/>
                <a:ext cx="46134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179280" y="3986280"/>
            <a:ext cx="2232000" cy="503280"/>
          </a:xfrm>
          <a:prstGeom prst="wedgeRoundRectCallout">
            <a:avLst>
              <a:gd name="adj1" fmla="val 68703"/>
              <a:gd name="adj2" fmla="val 147791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359080" y="5138640"/>
                <a:ext cx="43909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gnitude-limit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638360" y="1552680"/>
          <a:ext cx="5867280" cy="37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1552680"/>
                    <a:ext cx="5867280" cy="37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343240" y="5492880"/>
          <a:ext cx="445752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3240" y="5492880"/>
                    <a:ext cx="44575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3-04T02:51:52Z</dcterms:modified>
  <cp:revision>511</cp:revision>
  <dc:subject>Analog and Digital  Filter Design</dc:subject>
  <dc:title>Specification of an analog filter</dc:title>
</cp:coreProperties>
</file>