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7FD-E260-49AA-B1B4-1E64A933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4F9-4172-4053-8619-AF7815D3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A3E-4951-4175-B738-24980AB1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9EE-1294-42F1-8F9B-6B36C2AB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6D6-9B14-453B-92B0-7B9D4B17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9D7-4526-40FD-BBC5-82B23197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E9D-9538-4039-A24B-0244EABD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2F8-E964-457D-A946-520C6ABE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6D0-E91E-4006-8272-D9D7C44D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BEA-6537-4178-BDBC-B6F89218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7D2-997E-44E4-9CE5-69E98C50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DE7-20DF-4302-9937-804B3821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3769-8B19-4AF2-AC4B-AF020BCE8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igital filters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IR filter desig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ann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amm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lackma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quiripple FIR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of FIR filters can be accomplished through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erativ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tho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 iterative method is known as the weighted-Chebyshev method; an error function is formulated in terms of linear combination of cosine functions and is then minimized by using a very efficient multivariable optimization algorithm known as the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Remez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xchange algorith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convergence is achieved, the error function become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quiripp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mplitude of the error in different frequency bands is controlled by applying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ighting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the error fun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80000" y="0"/>
            <a:ext cx="1593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quirippl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565520" y="4413240"/>
          <a:ext cx="4543560" cy="240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5520" y="4413240"/>
                    <a:ext cx="454356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16000" y="61326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mez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esigns a linear-phase FIR filter using the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arks-McClella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lgorith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24360" y="404280"/>
            <a:ext cx="15937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onstrained Equiripple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firceqrip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4552920" y="4467240"/>
          <a:ext cx="4591080" cy="23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2920" y="4467240"/>
                    <a:ext cx="459108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east squares and related technique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ased on approach of minimizing, in some specified manner, the mean squared error between the transfer function of the filter and the frequency characteristics of a desired filter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 approaches exist: unweighted list squares, frequency sampling, weighted list squares, and eigen filter method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80360" y="-360"/>
            <a:ext cx="15127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ast square linear-phase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562640" y="4457880"/>
          <a:ext cx="4581360" cy="24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2640" y="4457880"/>
                    <a:ext cx="458136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132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t square linear-phase FIR filter design 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ir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41920" y="131760"/>
            <a:ext cx="1593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ast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th-norm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495680" y="4476600"/>
          <a:ext cx="464832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476600"/>
                    <a:ext cx="46483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33920" y="5876640"/>
            <a:ext cx="2601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aximally fla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54000"/>
            <a:ext cx="7410600" cy="6039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360" y="63025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 FIR Butterworth filter 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xfl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 desig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ing Filter Design Toolbo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 filt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 is characterized by a unit sample response that has a finite dur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 advantage of FIR filters compared to IIR counterparts is that FIR filters can be designed with exactly linear pha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ear phase is important for applications where phase distortion due to nonlinear phase can degrade performance (e.g., data transmission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of FIR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indowing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quiripple FIR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east squares and related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ear programming (LP) and mixed integer linear programming (MILP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mputationally efficient FIR filters using periodic subfilters as building block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indowing techniqu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e of the earliest design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efficients can be obtained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sed for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re is no need for solving complex optimization probl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ost frequently used window functions are Bartlett, Hann, Hamming, Blackman, and Kais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17269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50920" y="0"/>
          <a:ext cx="7093080" cy="677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7093080" cy="67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0" y="4365720"/>
            <a:ext cx="1368360" cy="2421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4869000"/>
            <a:ext cx="165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ilter Design Toolbox window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889520" y="1052640"/>
          <a:ext cx="421956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9520" y="1052640"/>
                    <a:ext cx="421956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79280" y="177336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ain role of the window is to damp out the effects of the Gibbs phenomenon that results from truncation of an infinite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Kais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artlet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MIROSLAV</cp:lastModifiedBy>
  <dcterms:modified xsi:type="dcterms:W3CDTF">2005-04-29T01:15:25Z</dcterms:modified>
  <cp:revision>217</cp:revision>
  <dc:subject>Analog and Digital  Filter Design</dc:subject>
  <dc:title>Digital filters, FIR filter design</dc:title>
</cp:coreProperties>
</file>