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DEB-6811-4ADA-A6F1-3A129B06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882-4544-4E6A-B3E7-A975832F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516-F947-4721-9859-C808BB76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D15-0D1F-4106-AF1D-0E4D8045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37D-41FB-48D8-A94C-E9750480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CD3-2018-4264-82BC-0E9C32C1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086-D9FA-4AB0-948B-2BF108E4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745-A83F-4B5B-9F02-2F5C7BF1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8AE-8673-4B7E-AEA3-2F5C27F9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BB5-3089-4E08-9A70-E5C5C15D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0B9-6BE8-4D5C-8DB4-DA978CE0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D5F-EEA4-4C29-BBDD-96606841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0FE8-5D18-46B4-87C9-5F5733BCA4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CA1B-8D18-4559-98C5-C944B90C0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from a presentation in: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mission Systems for Commun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 Telephone Laboratories, 1970, 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4F2-F7F9-4D64-A799-C849118B965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EE22F-77A6-41CA-B77D-EDFE77DE42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130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under a portion of this curve is the probability that the voltage lies in that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DF is zero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38200" y="3645000"/>
          <a:ext cx="6870600" cy="245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3645000"/>
                    <a:ext cx="68706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79800" y="1557360"/>
                <a:ext cx="26751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94320" y="2536920"/>
                <a:ext cx="2884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70E-7D8A-49A5-87CB-6DB6B5B3F5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F28CC-2B4B-4E32-A3CD-4F921453AC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6120"/>
            <a:ext cx="7772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Average of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emble”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 a large number of examples of the noise signal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set of all examples is the “ensembl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ny particular time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verage the set of values of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t the “Expected Value”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ime and ensemble averages give the same val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y usually do), the noise process is said to be “Ergod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5440" y="1833480"/>
                <a:ext cx="1633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63760" y="4081320"/>
                <a:ext cx="2109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882960" y="4113360"/>
                <a:ext cx="4178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for the infinite se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95E-D2EE-437A-8DE2-E6B94CE40D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6E411-D956-4529-99A2-2AD8DF4382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0460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calculate the ensemble average of our sinusoidal “nois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obviously zer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d symmetry, balance point, 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should since this noise the has no DC compone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65120" y="2563920"/>
                <a:ext cx="35337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65120" y="3416400"/>
                <a:ext cx="4416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2EF-FE92-4E76-97BA-08CDA55C64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C1052-FECE-4F84-A930-C3818D474D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[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also known as the “First Moment”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calculate other important moments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 “Second Central Moment” or “Variance”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or our sinusoidal nois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77880" y="1911240"/>
                <a:ext cx="3203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39920" y="3579840"/>
                <a:ext cx="5753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09840" y="4843440"/>
                <a:ext cx="36180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BA1-2DCB-4AE7-8833-B7A47A8662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5B456-CCAB-4589-9EF1-51496FC315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this requires “Integration by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19360" y="2637000"/>
                <a:ext cx="32194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19360" y="2049480"/>
                <a:ext cx="2827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9440" y="3643200"/>
                <a:ext cx="517680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    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3880" y="5305320"/>
                <a:ext cx="5672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2867040" y="5460840"/>
            <a:ext cx="839880" cy="8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519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E87-FDEF-4DF5-8531-71DC2DA3C5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4B802-480E-4629-83D8-9686B2C3BC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orresponds to the power of our sine wav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thout the “squared”) is called the “Standard Deviation”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ise and corresponds to the RMS value of th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70240" y="1482840"/>
                <a:ext cx="2789280" cy="33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9B7-A212-4F72-A1FD-F093EC0D98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6FB02-FF41-4B67-B5D3-7A9543443A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ussian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Limit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density function for a random variable that is the result of adding the effects of many small contributors tends to be Gaussian as the number of contributors gets l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46440" y="1436760"/>
                <a:ext cx="32446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1800360" y="2303640"/>
          <a:ext cx="5543280" cy="21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303640"/>
                    <a:ext cx="554328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1FE-05AE-48A7-9ACF-DFA4B8DCF7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B34F1-E15C-4921-B347-5DAA117DAF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onenti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naturally in discrete “Poison Process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between occur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pho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35160" y="1741320"/>
                <a:ext cx="4468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for v 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 0 , 0 for v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5" name=""/>
          <p:cNvGraphicFramePr/>
          <p:nvPr/>
        </p:nvGraphicFramePr>
        <p:xfrm>
          <a:off x="1800360" y="2443320"/>
          <a:ext cx="5543280" cy="197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443320"/>
                    <a:ext cx="55432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5A9-0B42-41DB-8418-0272898E6A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DA64A-D664-4106-BEAF-D14B562DD0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Noise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DF5-6DE4-4C36-A47E-CB04356DBB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AF3A8-F74F-4B6B-9243-FE0E07297B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Brownian motion of electrons in a resistiv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= k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ower spect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.3805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oltzmann’s constan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s the absolute temperature (°Kelv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“white” noise (“flat” spectr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colo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light has all colors at equ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distribution is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2F9-86C9-4323-9D7C-7F4341BA3E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F0D57-8295-4F9B-99E7-D3090AF5BC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noi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veforms with incomple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 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an we determ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ine waves of unknow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istribution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ensity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probability densit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in the real-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and Power Spectral den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E84-FDC8-4602-AD3B-40DE244ECA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79A66-9C8F-4C5B-B487-C243994D34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e accurate model (Quantum The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rrects for the high frequency roll of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ove 4000 GHz at room tempera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in the noise is sim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*T*BW Watts 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74 +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W) in dB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cibels relative to a milliwa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B =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/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73400" y="1887480"/>
                <a:ext cx="24746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∗</m:t>
                        </m:r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163-8ABF-4285-908B-7D06E3223EB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C528C-CB18-4FDB-8CE3-0C4C86D088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49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irregular flow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*q*I*f  whe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= 1.6 *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rge on an elec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noise is proportional to the signal lev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 tempera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lso white (flat spectrum) and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B96-B618-42B9-A11A-948698707D3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88321-C414-4CF4-8EDD-A3A69DCC9E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ed b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gularities in semiconductor d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many naturally occurring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red silhouettes (Mountains, clouds, rocky walls, fores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) =A / f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0.8 &l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1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23A-08F8-4209-8A6A-CF13BB629CA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8EE5D-1E28-4BE8-9E6A-15C26D75A4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668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energy spikes, clicks and p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hicle igni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white noise, but NOT Gauss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multiple sources - more impulse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ception to the “Central Limit Theor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0DA-B8A4-429B-8298-C89779BCEA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E73D9-FD05-4E2F-9914-DEB93C89CE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uman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48A-52D3-4412-9744-084C0EA635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2FA36-1726-4615-86C4-A144CAC0F4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ing Performanc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 average, good, e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91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response is a function of sound 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 here is the threshold of he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intensities yield flatte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udness" descr=""/>
          <p:cNvPicPr/>
          <p:nvPr/>
        </p:nvPicPr>
        <p:blipFill>
          <a:blip r:embed="rId1"/>
          <a:stretch/>
        </p:blipFill>
        <p:spPr>
          <a:xfrm>
            <a:off x="2846520" y="1981080"/>
            <a:ext cx="561168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75E-9910-4D5A-807F-D703F6259D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6638E-9BAD-42D5-B931-94F203D7EB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873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luid-filled spiral vibration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fil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frequencies travel the full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frequencies only affect the near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llia: hairs put out signals when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ring damage occurs when these are inj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at the near end are easily damaged (high frequency hearing 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chlea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000320" cy="31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02B-DDC0-4CA6-AC8B-CB730071CDA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569DC-34DC-4651-92D5-FCF44637D2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the threshold of hearing; used to specify OSHA safety levels (dB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A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B58-DC3C-4DBC-853F-52AEBBCE08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69AB8-3FDC-4334-AF8C-7C6AE58700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-Weighting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ow is an active filter that will accurately perform A-Weighting for sound measurement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nks to: Rod Elliot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http://sound.westhost.com/project17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A-weight_schematic" descr=""/>
          <p:cNvPicPr/>
          <p:nvPr/>
        </p:nvPicPr>
        <p:blipFill>
          <a:blip r:embed="rId1"/>
          <a:stretch/>
        </p:blipFill>
        <p:spPr>
          <a:xfrm>
            <a:off x="947880" y="3627360"/>
            <a:ext cx="724680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388-9ABF-4506-820B-A10D21D4D8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8997A-75CF-4616-95E5-4B32CE1024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normal listening levels; used to specify noise in telephone systems (dB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6F4-6769-40EA-AA13-BF298085C7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FEE61-06BB-43F7-A96C-99D2FDA36A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equency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EDC-60AB-4C4F-B96B-01BAD06617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9DEE1-CF73-431C-8BB0-B6C7051D70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9120" y="1384200"/>
                <a:ext cx="8359920" cy="46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Energy in a time waveform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Inverse Fourier Transform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den>
                                </m:f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t xml:space="preserve">dω</m:t>
                                    </m:r>
                                  </m:e>
                                </m:nary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Substituting for one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nterchanging the order of integ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inner integral is almost the Fourier Transfor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cept for the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e complex conjugate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the </m:t>
                        </m:r>
                        <m:r>
                          <m:t xml:space="preserve">Energy</m:t>
                        </m:r>
                        <m:r>
                          <m:t xml:space="preserve">Spectral</m:t>
                        </m:r>
                        <m:r>
                          <m:t xml:space="preserve">Density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E53-389C-4192-9A93-2D0D0DA86EE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CF110-1572-4323-86CF-300939F2C7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44240"/>
            <a:ext cx="77724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Linea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75740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the ESD of the output of a linear system is obtained by multiplying the ESD of the input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5160" y="208296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4680" y="1752480"/>
            <a:ext cx="1092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9556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5160" y="175896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175896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2960" y="1927080"/>
            <a:ext cx="9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360" y="2438280"/>
                <a:ext cx="835668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changing to f eliminates the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r>
                                      <m:t xml:space="preserve">∗</m:t>
                                    </m:r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o if 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re uncorrelated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∗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DD2-1C7A-44D7-B440-E4058D1958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2133B-EB6A-4062-A110-6EB553E46A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34600"/>
            <a:ext cx="77724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that exist for all time have an infinite energy so we define power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82800" y="2590920"/>
                <a:ext cx="6700680" cy="36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is is energy/ti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≡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zero elsewhere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which does exist and the Power is: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im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→</m:t>
                                      </m:r>
                                      <m:r>
                                        <m:t xml:space="preserve">∞</m:t>
                                      </m:r>
                                    </m:e>
                                  </m:mr>
                                </m: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|"/>
                                                <m:endChr m:val="|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F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T</m:t>
                                                    </m:r>
                                                  </m:sub>
                                                </m:sSub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</m:d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FC3-3D54-4E1A-B0AE-527DBB3C8C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A7955-F2D3-4DD9-A260-97E0A623E7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3496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efore, the function in the integral is a density.  This time it’s the 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e ESD and PSD functions are real and eve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06400" y="2286000"/>
                <a:ext cx="32212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SD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</m:mr>
                      <m:mr>
                        <m:e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mr>
                    </m:m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6E2-9A0E-4271-8E62-924DF44A9DC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B53C9-9FA4-4D6F-9841-FF00149BA6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undesired signal that interferes with the reproduction of a desired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: predictable, often periodic, 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generated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unpredictable noise, generated by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stochastic” process in nature or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980-09DC-4ED7-BE05-FA29916E63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2234D-F651-4517-BF50-C37DD1BB9C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dom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” of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spectrum: distribution of energ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s a function of frequen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know the details of the waveform only its “average”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62D-739E-4CBC-A9D5-8652C0427C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FFF3B-3861-4634-8A7C-080C809598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 analysis Introduc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ne wave of unknown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frequency inter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(t) = A 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known,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know its value at time “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28800" y="3276720"/>
            <a:ext cx="4676760" cy="2990880"/>
            <a:chOff x="1828800" y="3276720"/>
            <a:chExt cx="4676760" cy="2990880"/>
          </a:xfrm>
        </p:grpSpPr>
        <p:graphicFrame>
          <p:nvGraphicFramePr>
            <p:cNvPr id="54" name=""/>
            <p:cNvGraphicFramePr/>
            <p:nvPr/>
          </p:nvGraphicFramePr>
          <p:xfrm>
            <a:off x="1828800" y="3276720"/>
            <a:ext cx="4676760" cy="2990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276720"/>
                      <a:ext cx="4676760" cy="299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581280" y="3657600"/>
              <a:ext cx="0" cy="20574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F4C-766C-4DE7-A05A-1C882EC619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D7F20-5A83-4771-8BAB-B15EDC90D3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“Energy Spectral Density” is just the magnitude squared of the Fourier transform of 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ll of the energy is concentrated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ach half of the energy is at 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 Fourier transform is based on the complex exponential not sine and cos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2438280"/>
                <a:ext cx="5715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752480" y="4343400"/>
            <a:ext cx="5543640" cy="1971720"/>
            <a:chOff x="1752480" y="4343400"/>
            <a:chExt cx="5543640" cy="1971720"/>
          </a:xfrm>
        </p:grpSpPr>
        <p:graphicFrame>
          <p:nvGraphicFramePr>
            <p:cNvPr id="61" name=""/>
            <p:cNvGraphicFramePr/>
            <p:nvPr/>
          </p:nvGraphicFramePr>
          <p:xfrm>
            <a:off x="1752480" y="4343400"/>
            <a:ext cx="5543640" cy="1971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4343400"/>
                      <a:ext cx="554364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2846520" y="5029200"/>
              <a:ext cx="144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08560" y="5029200"/>
              <a:ext cx="180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D9E-4E67-4723-AC67-2A49F212F3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D5B80-2D60-44C3-8EBD-B6BBEA1274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95080"/>
            <a:ext cx="77724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distribution” of the ‘noise”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probability that at any time t the voltage is less than or equal to a particular value “v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ies at some values are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-A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0) =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arcsin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013360" y="2320920"/>
                <a:ext cx="1960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8" name=""/>
          <p:cNvGraphicFramePr/>
          <p:nvPr/>
        </p:nvGraphicFramePr>
        <p:xfrm>
          <a:off x="1800360" y="4414680"/>
          <a:ext cx="554328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4414680"/>
                    <a:ext cx="5543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207200" y="505296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90D-7060-4DD5-83B5-30D50C1BEB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586DF-9EF2-479B-AC8B-916238D6AF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952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68600"/>
            <a:ext cx="777240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arcsin(v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 noise spends more time near the extremes and less time near zero.  Think of a pendul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tops at the extremes and is moving slowly near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move fastest at the bottom and therefore spends less time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useful function is the derivative of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Probability Density Function”,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(note the lower case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392120" y="2128680"/>
          <a:ext cx="554364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2128680"/>
                    <a:ext cx="55436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84920" y="279252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9A4-A02F-4CAE-8FEE-21C67F3A37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3E3B5-346C-4A11-AF3C-40DA1AADAD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4:07:05Z</dcterms:created>
  <dc:creator>Jeffrey N. Denenberg</dc:creator>
  <dc:description/>
  <dc:language>en-US</dc:language>
  <cp:lastModifiedBy>Jeffrey N Denenberg</cp:lastModifiedBy>
  <cp:lastPrinted>2002-11-24T18:12:09Z</cp:lastPrinted>
  <dcterms:modified xsi:type="dcterms:W3CDTF">2002-11-24T18:18:55Z</dcterms:modified>
  <cp:revision>234</cp:revision>
  <dc:subject/>
  <dc:title>Noise: An Introduction</dc:title>
</cp:coreProperties>
</file>