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08F-64AE-451A-B766-E95CFE3B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675-597F-4982-875A-D4A8DE0A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A97-E1E1-4680-9639-4689EA8C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20E-23A7-4F35-B493-5191C1AD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E34-C211-407E-B82F-F08541F2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2E1-C6DC-4F18-912C-DAAC2049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986-D920-45E6-B9FD-F709D9FC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A00-D724-403D-8FF2-57D4071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771-3B2E-4206-9942-E06CBF5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7A2-7CD6-476B-89B2-A867066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7CC-AD72-4604-836A-AB667C94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259-104B-4CB2-BF8A-50C3FF0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86E-190B-4ECB-A632-B60A0E939F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1E97-36B0-4327-B8B0-D18CA74F2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Approxi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erworth, Chebyshev, and Elliptic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H(s)| for n=4, r=1 (Type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715000" cy="413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0.2457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9528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.4539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7426s + 0.27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lie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3ED-E934-4772-9411-B1AEA7F28B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AFBAD-2DF1-4792-939E-DC57E43CCC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the Jacobian elliptic function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pproximately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on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ly controlled equiripple in the pass-band and stop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er cutoff than Chebyshev (optimal transition b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523880"/>
            <a:ext cx="5213160" cy="2303640"/>
            <a:chOff x="914400" y="1523880"/>
            <a:chExt cx="5213160" cy="23036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16594" r="0" b="0"/>
            <a:stretch/>
          </p:blipFill>
          <p:spPr>
            <a:xfrm>
              <a:off x="1371600" y="1523880"/>
              <a:ext cx="4495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14400" y="152388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342864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0960" y="342864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079960" y="1600200"/>
                <a:ext cx="2843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A70-D81C-4D4D-8CAC-6E3B79DB5F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73956-1044-4A27-9B93-8F2427D2EF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s) for n=4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327400" cy="268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5715000" cy="4378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57150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(s) = (0.0032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0595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1554)/( 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5769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1.2227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4369s + 0.219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71C-B0DA-4543-9255-74666D9774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9041D-AF3C-42D4-A79E-5B1A3DE71F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se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utterworth and Chebyshev filters with sharp cutoffs (high order) carry a penalty that is evident from the positions of their poles in the s plane. Bringing the poles closer to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 increases their Q, which degrades the filter's transient response. Overshoot or ringing at the response edges can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ssel filter represents a trade-off in the opposite direction from the Butterworth. The Bessel's poles lie on a locus further from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. Transient response is improved, but at the expense of a less steep cutoff in the stop-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00400" cy="317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B1D-EDAB-4806-9A68-79B464D519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F509A-C919-454F-AA9C-0F45A123B0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tool to establish a prototyp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Lab is a great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doctord.webhop.net/courses/Topics/Matlab/index.ht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Matlab tutorial by Dr. Bouzid Aliane; Chapter 5 is on filter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design for ringing/oversh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trimental, increase the filter order and redesign to exceed the frequency respons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poles near the 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to the left to reduce their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resulting filter against you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poles to the left will reduce ringing/overshoo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egrade the transition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705-DE10-4B33-8DB5-A20B186C7B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02B39-614F-4117-9A6C-8B4C1BA8A0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ximation Polynom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hysically realizable circuit has a transfer function that is a rational polynomial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determine classes of rational polynomials that approximate the “Ideal” low-pass filter respon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igh-pass band-pass and band-stop filters can be derived from a low pass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well known approximations are discussed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erworth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n Butterworth,"On the Theory of Filter Amplifiers", Wireless Engineer (also called Experimental Wireless and the Radio Engineer), vol. 7, 1930, pp. 536-5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byshev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fnuty Lvovich Chebyshev (1821-1894) - Russ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illic alphabet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lled many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Func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helm Cauer (1900-1945) - Germ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patents 1,958,742 (1934), 1,989,545 (1935), 2,048,426 (19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se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drich Wilhelm Bessel, 1784 - 18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692360" cy="3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D81-5C7A-4F51-BE89-E31C643E1E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0AAD8-602D-41C4-839C-0D3CAA3D11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|H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approximation to the ideal low-pass filter response |I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deal filter cutoff frequen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t is normalized to one for conven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00200" y="2438280"/>
            <a:ext cx="4495320" cy="1947600"/>
            <a:chOff x="1600200" y="2438280"/>
            <a:chExt cx="4495320" cy="1947600"/>
          </a:xfrm>
        </p:grpSpPr>
        <p:sp>
          <p:nvSpPr>
            <p:cNvPr id="49" name=""/>
            <p:cNvSpPr/>
            <p:nvPr/>
          </p:nvSpPr>
          <p:spPr>
            <a:xfrm flipV="1">
              <a:off x="2701080" y="2531880"/>
              <a:ext cx="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01080" y="3851280"/>
              <a:ext cx="27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2438280"/>
              <a:ext cx="91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I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94640" y="394524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1080" y="3003480"/>
              <a:ext cx="10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0160" y="300348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8360" y="394524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3880" y="281448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155-730A-4B15-876B-B6166FF700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4AC77-659F-4D67-BE74-BC71A9783B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tion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“Characteristic Function” which attempts to approximate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not be done with a finite order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lexibility for the degree of error in the passband or stop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52480" y="1676520"/>
                <a:ext cx="2843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828800" y="3429000"/>
            <a:ext cx="3047760" cy="1378080"/>
            <a:chOff x="1828800" y="3429000"/>
            <a:chExt cx="3047760" cy="1378080"/>
          </a:xfrm>
        </p:grpSpPr>
        <p:sp>
          <p:nvSpPr>
            <p:cNvPr id="61" name=""/>
            <p:cNvSpPr/>
            <p:nvPr/>
          </p:nvSpPr>
          <p:spPr>
            <a:xfrm flipV="1">
              <a:off x="2641320" y="3543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1320" y="4350600"/>
              <a:ext cx="20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3486600"/>
              <a:ext cx="6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800" y="44082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18480" y="440820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0240" y="371556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41320" y="4350600"/>
              <a:ext cx="7448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454200" y="3659040"/>
              <a:ext cx="0" cy="690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18480" y="34290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BB2-5893-4CBB-B3B5-7948C038A3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AD859-188D-4EF5-82B0-BE38BBB136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er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stay within the shade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an incomplete specification.  The phase response and transient response are also important and need to be appropriate for the filt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47920" y="1676520"/>
            <a:ext cx="4230720" cy="3245400"/>
            <a:chOff x="1447920" y="1676520"/>
            <a:chExt cx="4230720" cy="3245400"/>
          </a:xfrm>
        </p:grpSpPr>
        <p:sp>
          <p:nvSpPr>
            <p:cNvPr id="73" name=""/>
            <p:cNvSpPr/>
            <p:nvPr/>
          </p:nvSpPr>
          <p:spPr>
            <a:xfrm flipV="1">
              <a:off x="2482920" y="1738440"/>
              <a:ext cx="1440" cy="17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2920" y="3505320"/>
              <a:ext cx="30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16765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69040" y="3635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82920" y="2368440"/>
              <a:ext cx="11034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6320" y="2368440"/>
              <a:ext cx="1440" cy="113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8240" y="35701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41640" y="21985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2920" y="2368440"/>
              <a:ext cx="11034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6320" y="2368440"/>
              <a:ext cx="199800" cy="113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86120" y="3251160"/>
              <a:ext cx="140328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308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8936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84360" y="3505320"/>
              <a:ext cx="180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2600" y="3765600"/>
              <a:ext cx="89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ss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4040" y="3765600"/>
              <a:ext cx="89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p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7760" y="4614840"/>
              <a:ext cx="16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ition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651120" y="4484520"/>
              <a:ext cx="20664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B45-2202-44BC-97FF-89D9DAF858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B3073-314E-41DC-AB5A-EA8A892DD4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terw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ansfer function (no rip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lly flat and Linear phase (in the pass-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cutof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43000" y="1828800"/>
            <a:ext cx="5899320" cy="2044440"/>
            <a:chOff x="1143000" y="1828800"/>
            <a:chExt cx="5899320" cy="20444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565280" y="1915920"/>
              <a:ext cx="538668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43000" y="182880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350496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5720" y="34290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4120" y="1676520"/>
                <a:ext cx="2842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10080" y="2514600"/>
                <a:ext cx="2133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779-3023-45F5-B0A7-513B9E0912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89516-6003-4C8F-8D8A-6F47C6CE0F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locations in the s-plane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/2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re equally spaced on the unit circl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only uses the n poles in the left half plane for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1066680"/>
                <a:ext cx="2374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1447920" y="2057400"/>
            <a:ext cx="5257800" cy="2971800"/>
            <a:chOff x="1447920" y="2057400"/>
            <a:chExt cx="5257800" cy="29718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47920" y="2057400"/>
              <a:ext cx="3217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214960" y="3512880"/>
              <a:ext cx="14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1BC-A00A-405D-BB91-0EBA7ACF44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D53C4-3066-484B-BB5F-BA3AE6B30E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Fil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H(s)| for n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715000" cy="422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1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.414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B5E-ACA5-4F5D-A1A9-AF4EC5610F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A55D8-AF1E-4079-BB6E-4801EDF206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equiripple in the pass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cutoff than Butter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352680" cy="23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3047760" cy="2198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– Typ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29200" y="106668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514600" y="388620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0988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13372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4F3-629E-4E9F-8885-BE316BD51F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EA750-F260-4FC4-AD51-6F8946C8ED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8:08:16Z</dcterms:created>
  <dc:creator>Jeffrey N Denenberg</dc:creator>
  <dc:description/>
  <dc:language>en-US</dc:language>
  <cp:lastModifiedBy>Jeffrey Denenberg</cp:lastModifiedBy>
  <dcterms:modified xsi:type="dcterms:W3CDTF">2005-06-13T12:56:45Z</dcterms:modified>
  <cp:revision>21</cp:revision>
  <dc:subject/>
  <dc:title>Filter Approximation Theory</dc:title>
</cp:coreProperties>
</file>